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11.jpeg" ContentType="image/jpeg"/>
  <Override PartName="/ppt/media/image8.wmf" ContentType="image/x-wmf"/>
  <Override PartName="/ppt/media/image10.gif" ContentType="image/gi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1E388-CC58-4896-A537-722AAB9E7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BD1A7-3B02-4E6D-8F67-BEFBC346D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69511-5B84-46D0-A763-B6C790C82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C08B9-89DA-4AF0-90AD-CD4317745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95835-9BC7-4BEE-BE06-F8A47DCCD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988D3-19AB-4D9D-A8BB-0A0B1BC9C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8322B-3B8C-496F-84D3-A34C633E4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E2461-7BAD-425E-9E98-E7678EF6C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29C93-93DB-46D8-A0A7-AE665A5C2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46AE6-D8EC-4EBA-BDBC-59B52F57B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31E33-5ED1-400B-A90D-415A68D95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CD96E-8495-4895-A1EE-4E3FC159B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A50C6-3D9F-48D9-8FD5-CEA77598AC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0880" y="380880"/>
            <a:ext cx="830592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paring Our Students for the 2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entu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85800" y="1219320"/>
            <a:ext cx="4038480" cy="26002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5562720" y="1143000"/>
            <a:ext cx="2286000" cy="27176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80880" y="4038480"/>
            <a:ext cx="838224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t Cwal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ector of Curriculum and Instruction (Science and Technolog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rristown Area School Distri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gust 5, 20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We Can Help Par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cuss course sel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cuss “future plans” of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courage your children to take rigorous course work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specially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ring their senior y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p into resources about college and future plan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6858000" y="457200"/>
            <a:ext cx="1905120" cy="21337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457200" y="685800"/>
            <a:ext cx="81532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As for the future, your task is not to foresee it, but to enable it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- Antoine de Saint-Exupe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590920" y="2895480"/>
            <a:ext cx="4114800" cy="31244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Switzerland"/>
              </a:rPr>
              <a:t>What We Know Today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In order to compete in a 21</a:t>
            </a:r>
            <a:r>
              <a:rPr b="0" lang="en-US" sz="2800" spc="-1" strike="noStrike" baseline="30000">
                <a:solidFill>
                  <a:srgbClr val="000099"/>
                </a:solidFill>
                <a:latin typeface="Arial"/>
              </a:rPr>
              <a:t>st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 century global economy, Pennsylvania needs a highly-educated and proficient workforce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By the year 2010, the U.S. will face a shortage of 12 million qualified workers for the fastest-growing job sectors including health care and computer technology.  </a:t>
            </a:r>
            <a:r>
              <a:rPr b="0" i="1" lang="en-US" sz="2000" spc="-1" strike="noStrike">
                <a:solidFill>
                  <a:srgbClr val="000099"/>
                </a:solidFill>
                <a:latin typeface="Arial"/>
              </a:rPr>
              <a:t>(U.S. Bureau of Labor Statistic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This will make it imperative that </a:t>
            </a:r>
            <a:r>
              <a:rPr b="0" i="1" lang="en-US" sz="2800" spc="-1" strike="noStrike">
                <a:solidFill>
                  <a:srgbClr val="000099"/>
                </a:solidFill>
                <a:latin typeface="Arial"/>
              </a:rPr>
              <a:t>all 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youth - both enrolled and out of school - have the skills and education to meet this shortage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7315200" y="2057400"/>
            <a:ext cx="895320" cy="8953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6095880" y="5791320"/>
            <a:ext cx="1143000" cy="8380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1163520" cy="1143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228600" y="228600"/>
          <a:ext cx="6553080" cy="6378480"/>
        </p:xfrm>
        <a:graphic>
          <a:graphicData uri="http://schemas.openxmlformats.org/drawingml/2006/table">
            <a:tbl>
              <a:tblPr/>
              <a:tblGrid>
                <a:gridCol w="4572000"/>
                <a:gridCol w="19810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Fortune 500 Characteristic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7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rit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putational Skill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ading Skill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ral Communic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istening Skill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ersonal Career Developm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reative Think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eadershi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oal Setting/Motiv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amwor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rganizational Effectivenes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oblem Solv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terpersonal Skill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7010280" y="228600"/>
          <a:ext cx="1828800" cy="6419880"/>
        </p:xfrm>
        <a:graphic>
          <a:graphicData uri="http://schemas.openxmlformats.org/drawingml/2006/table">
            <a:tbl>
              <a:tblPr/>
              <a:tblGrid>
                <a:gridCol w="18288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200400" y="914400"/>
            <a:ext cx="1447920" cy="15238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similarities and differences do you noti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es this differ from a traditional view of instruc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oes this information mean for our students?  Our Teachers? The Communit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serv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artnership for 21st Century Learning:  21st Century Skil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o is the Partnership for 2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entury Learn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artnership for 21st Century Skills, the nation’s leading advocacy organization focused on infusing 21st century skills into education, comprised of some of the following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533520" y="3505320"/>
          <a:ext cx="8076600" cy="2646360"/>
        </p:xfrm>
        <a:graphic>
          <a:graphicData uri="http://schemas.openxmlformats.org/drawingml/2006/table">
            <a:tbl>
              <a:tblPr/>
              <a:tblGrid>
                <a:gridCol w="4153680"/>
                <a:gridCol w="3922920"/>
              </a:tblGrid>
              <a:tr h="267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ob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p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&amp;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ducational Testing Servi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d Mot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nior Achievem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crosof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same Stree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iz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7086600" y="4952880"/>
            <a:ext cx="1752480" cy="1467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artnership for 21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Century Learning:  21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Century Skil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5345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igital-Age Literacy: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Basic, Scientific, Economic, Technological, Visual, Information, Multicultural and Global Awareness, Healt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5715000" y="3886200"/>
            <a:ext cx="2514600" cy="24382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ventive Thinking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artnership for 21st Century Learning:  21st Century Skil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33520" y="2438280"/>
            <a:ext cx="8153280" cy="40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aptability and Managing Complexity, Self-Direction, Curiosity, Creativity, Risk Taking, Higher-Order Thinking and Sound Reaso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6934320" y="1600200"/>
            <a:ext cx="1699920" cy="18176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ffective Communication: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Teaming and Collaboration, Interpersonal Skills, Personal Responsibility, Social and Civic Responsibility, Interactive Commun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artnership for 21st Century Learning:  21st Century Skil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igh Productivit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artnership for 21st Century Learning:  21st Century Skil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09480" y="2438280"/>
            <a:ext cx="8001000" cy="40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ioritizing, Planning and Managing for Results, Effective Use of Real-World Tools, Ability to Produce Relevant, High-Quality Produc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6477120" y="1600200"/>
            <a:ext cx="2286000" cy="15238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0T17:48:43Z</dcterms:created>
  <dc:creator>BASD</dc:creator>
  <dc:description/>
  <dc:language>en-US</dc:language>
  <cp:lastModifiedBy>NASD</cp:lastModifiedBy>
  <dcterms:modified xsi:type="dcterms:W3CDTF">2009-08-12T17:25:32Z</dcterms:modified>
  <cp:revision>24</cp:revision>
  <dc:subject/>
  <dc:title>Slide 1</dc:title>
</cp:coreProperties>
</file>