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7DC-1392-45F7-A62B-AAAA1167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E9D-90A5-4955-BA92-228D382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13D-E66C-41C4-9B0C-B6F63D38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DB7-0448-4A93-AC08-8E353F1E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8DF-4823-4697-86A1-B8BCB9E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466-69CE-45FD-BA00-BBAE72BC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68E-1031-46AF-AB9E-FF2EDB6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7B3-4FB6-4508-984B-ED8E8FED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1F2-1A46-4A77-9806-31D577C2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6F8-ECE1-4564-AE65-F4E09FD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490-249E-42E3-AB3C-33B9DA5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513-51BF-401C-AFB1-D12506B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F9A-F788-4260-B316-B055B3CB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Our Students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28600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038480"/>
            <a:ext cx="8382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Cw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of Curriculum and Instruction (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ristown Area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Can Help Par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urse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“future plans”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children to take rigorous course wor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senio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 into resources about college and futu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 for the future, your task is not to foresee it, but to enable i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Antoine de Saint-Exup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tzerland"/>
              </a:rPr>
              <a:t>What We Know Tod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order to compete in a 2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century global economy, Pennsylvania needs a highly-educated and proficient workfor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y the year 2010, the U.S. will face a shortage of 12 million qualified workers for the fastest-growing job sectors including health care and computer technology. 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U.S. Bureau of Labor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s will make it imperative that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th - both enrolled and out of school - have the skills and education to meet this shor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5200" y="2057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5791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16352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228600"/>
          <a:ext cx="6553080" cy="6378480"/>
        </p:xfrm>
        <a:graphic>
          <a:graphicData uri="http://schemas.openxmlformats.org/drawingml/2006/table">
            <a:tbl>
              <a:tblPr/>
              <a:tblGrid>
                <a:gridCol w="457200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une 500 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ati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tening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Caree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ive Th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 Setting/Motiv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Effective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personal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10280" y="228600"/>
          <a:ext cx="1828800" cy="64198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imilarities and difference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differ from a traditional view of i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information mean for our students?  Our Teachers?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e Partnership for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nership for 21st Century Skills, the nation’s leading advocacy organization focused on infusing 21st century skills into education, comprised of some of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3505320"/>
          <a:ext cx="8076600" cy="2646360"/>
        </p:xfrm>
        <a:graphic>
          <a:graphicData uri="http://schemas.openxmlformats.org/drawingml/2006/table">
            <a:tbl>
              <a:tblPr/>
              <a:tblGrid>
                <a:gridCol w="4153680"/>
                <a:gridCol w="3922920"/>
              </a:tblGrid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&amp;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Testing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Achie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ame Str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z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75248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Learning: 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-Age Literacy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asic, Scientific, Economic, Technological, Visual, Information, Multicultural and Global Awareness,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ntive Thin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81532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bility and Managing Complexity, Self-Direction, Curiosity, Creativity, Risk Taking, Higher-Order Thinking and Sound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699920" cy="18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 Communica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eaming and Collaboration, Interpersonal Skills, Personal Responsibility, Social and Civic Responsibility, Interactive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gh Productiv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 for 21st Century Learning:  21st Century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43828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zing, Planning and Managing for Results, Effective Use of Real-World Tools, Ability to Produce Relevant, High-Quality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48:43Z</dcterms:created>
  <dc:creator>BASD</dc:creator>
  <dc:description/>
  <dc:language>en-US</dc:language>
  <cp:lastModifiedBy>NASD</cp:lastModifiedBy>
  <dcterms:modified xsi:type="dcterms:W3CDTF">2009-08-12T17:25:32Z</dcterms:modified>
  <cp:revision>24</cp:revision>
  <dc:subject/>
  <dc:title>Slide 1</dc:title>
</cp:coreProperties>
</file>