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E55-46B7-460D-A3B9-94AA7D51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154-0FC4-4181-A146-1100EF0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EB4-47F2-4B82-B40D-0AA4D5F4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A7B-640D-43BD-861D-3F2EDB0A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A07-B053-4874-B0D7-3EAEB75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936-7183-49CE-BB92-D2C980D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CBE-3BD2-49BF-8356-97777AD3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326-786A-4FF8-962C-084095E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B29-D70E-4F55-902A-A96C223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F3F-8B66-4B47-9237-CEA8854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FA5-598C-452B-8F80-A07C6E2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DF7-CC90-43DF-A58A-C0FDB9F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A8DC-8C8B-450D-AF66-4012A9B3F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Our Studen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28600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038480"/>
            <a:ext cx="8382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Cw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urriculum and Instruction (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ristown Area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Can Help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urse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“future plans”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children to take rigorous course wor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senio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into resources about college and futu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 for the future, your task is not to foresee it, but to enable i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Antoine de Saint-Exup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tzerland"/>
              </a:rPr>
              <a:t>What We Know To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order to compete in a 2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century global economy, Pennsylvania needs a highly-educated and proficient workfor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y the year 2010, the U.S. will face a shortage of 12 million qualified workers for the fastest-growing job sectors including health care and computer technology.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U.S. Bureau of Labor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s will make it imperative that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th - both enrolled and out of school - have the skills and education to meet this shor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5200" y="2057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5791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1635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228600"/>
          <a:ext cx="6553080" cy="6378480"/>
        </p:xfrm>
        <a:graphic>
          <a:graphicData uri="http://schemas.openxmlformats.org/drawingml/2006/table">
            <a:tbl>
              <a:tblPr/>
              <a:tblGrid>
                <a:gridCol w="457200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une 500 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ti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en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Caree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v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 Setting/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Effec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ers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10280" y="228600"/>
          <a:ext cx="1828800" cy="64198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imilarities and difference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differ from a traditional view of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information mean for our students?  Our Teachers?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e Partnership for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ship for 21st Century Skills, the nation’s leading advocacy organization focused on infusing 21st century skills into education, comprised of some of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3505320"/>
          <a:ext cx="8076600" cy="2646360"/>
        </p:xfrm>
        <a:graphic>
          <a:graphicData uri="http://schemas.openxmlformats.org/drawingml/2006/table">
            <a:tbl>
              <a:tblPr/>
              <a:tblGrid>
                <a:gridCol w="4153680"/>
                <a:gridCol w="392292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&amp;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Testing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ame St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Learning: 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-Age Literacy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asic, Scientific, Economic, Technological, Visual, Information, Multicultural and Global Awareness,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ive Thin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8153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bility and Managing Complexity, Self-Direction, Curiosity, Creativity, Risk Taking, Higher-Order Thinking and Sound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699920" cy="18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Communica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eaming and Collaboration, Interpersonal Skills, Personal Responsibility, Social and Civic Responsibility, Interactiv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 Productiv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zing, Planning and Managing for Results, Effective Use of Real-World Tools, Ability to Produce Relevant, High-Quality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48:43Z</dcterms:created>
  <dc:creator>BASD</dc:creator>
  <dc:description/>
  <dc:language>en-US</dc:language>
  <cp:lastModifiedBy>NASD</cp:lastModifiedBy>
  <dcterms:modified xsi:type="dcterms:W3CDTF">2009-08-12T17:25:32Z</dcterms:modified>
  <cp:revision>24</cp:revision>
  <dc:subject/>
  <dc:title>Slide 1</dc:title>
</cp:coreProperties>
</file>