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88C3-3BBE-4334-A9B1-283AF130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0759-72FF-49CC-905F-CC065643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637-6E8A-4B92-AF1D-4E60C1B3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13A-7740-4A21-A7B0-D4178E5C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AE3-D9BC-4DFC-99A3-4D41EC3A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C33-FF28-47EE-809B-87B3BA7D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2484-54D9-4821-AC9F-FB4EDB5E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976-7405-47CA-B203-EE956405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DBE-495E-4E7A-BBE7-042DBE80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312-75B4-4AFF-AAFE-AC72933B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3F9-F5DA-4DD8-94D4-AB34FB91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65E-EC69-4B49-B2D0-6D7D14E3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3098-0D6D-4D3B-9F71-A86EB4F44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05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Our Students for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4038480" cy="260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286000" cy="271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4038480"/>
            <a:ext cx="83822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 Cw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 of Curriculum and Instruction (Science and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ristown Area School Distr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ust 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e Can Help Par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course s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“future plans”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your children to take rigorous course work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pecia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ir senio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 into resources about college and futu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0" y="457200"/>
            <a:ext cx="1905120" cy="213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68580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s for the future, your task is not to foresee it, but to enable i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 Antoine de Saint-Exup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4114800" cy="312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tzerland"/>
              </a:rPr>
              <a:t>What We Know Tod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 order to compete in a 21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century global economy, Pennsylvania needs a highly-educated and proficient workfor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y the year 2010, the U.S. will face a shortage of 12 million qualified workers for the fastest-growing job sectors including health care and computer technology. 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U.S. Bureau of Labor Statis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s will make it imperative that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all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youth - both enrolled and out of school - have the skills and education to meet this shor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15200" y="20574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5880" y="579132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163520" cy="114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228600"/>
          <a:ext cx="6553080" cy="6378480"/>
        </p:xfrm>
        <a:graphic>
          <a:graphicData uri="http://schemas.openxmlformats.org/drawingml/2006/table">
            <a:tbl>
              <a:tblPr/>
              <a:tblGrid>
                <a:gridCol w="457200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tune 500 Characteri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tational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ing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al Commun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stening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al Career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ive Thin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d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al Setting/Motiv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am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zational Effective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 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personal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010280" y="228600"/>
          <a:ext cx="1828800" cy="641988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914400"/>
            <a:ext cx="144792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imilarities and differences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differ from a traditional view of in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information mean for our students?  Our Teachers? The Commu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is the Partnership for 2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Lea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tnership for 21st Century Skills, the nation’s leading advocacy organization focused on infusing 21st century skills into education, comprised of some of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3520" y="3505320"/>
          <a:ext cx="8076600" cy="2646360"/>
        </p:xfrm>
        <a:graphic>
          <a:graphicData uri="http://schemas.openxmlformats.org/drawingml/2006/table">
            <a:tbl>
              <a:tblPr/>
              <a:tblGrid>
                <a:gridCol w="4153680"/>
                <a:gridCol w="3922920"/>
              </a:tblGrid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&amp;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al Testing 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d Mo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 Achiev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ame Stre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z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752480" cy="146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entury Learning: 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-Age Literacy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Basic, Scientific, Economic, Technological, Visual, Information, Multicultural and Global Awareness,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ventive Think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438280"/>
            <a:ext cx="81532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ptability and Managing Complexity, Self-Direction, Curiosity, Creativity, Risk Taking, Higher-Order Thinking and Sound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1600200"/>
            <a:ext cx="1699920" cy="181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ive Communica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eaming and Collaboration, Interpersonal Skills, Personal Responsibility, Social and Civic Responsibility, Interactive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gh Productivit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438280"/>
            <a:ext cx="8001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oritizing, Planning and Managing for Results, Effective Use of Real-World Tools, Ability to Produce Relevant, High-Quality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48:43Z</dcterms:created>
  <dc:creator>BASD</dc:creator>
  <dc:description/>
  <dc:language>en-US</dc:language>
  <cp:lastModifiedBy>NASD</cp:lastModifiedBy>
  <dcterms:modified xsi:type="dcterms:W3CDTF">2009-08-12T17:25:32Z</dcterms:modified>
  <cp:revision>24</cp:revision>
  <dc:subject/>
  <dc:title>Slide 1</dc:title>
</cp:coreProperties>
</file>