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10.gif" ContentType="image/gi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C1F6-8350-4855-BFA6-9E6D4CC0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CDD5-F299-4F30-ACC5-19C02E72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4F99-329B-426A-8DE5-00F7F6D3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68CA-71A6-417E-AABB-D2067E6A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1828-FA8D-464B-BEA5-0D703F14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6EA-7EDF-4E6C-9C57-A6712DBD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67DB-A714-4D7F-B9F3-153742D0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0B93-3D66-4664-842B-0D9F9D33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2ADC-81DD-400C-B86B-F83FA628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BC4-FB9B-4DFF-8EE6-F05BF74A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7B61-88D9-4518-8282-98379522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DE62-FEE7-4231-8808-954B2CD1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9A71-3078-48B5-B83C-5BC47B947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3059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Our Students for the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4038480" cy="2600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562720" y="1143000"/>
            <a:ext cx="2286000" cy="2717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4038480"/>
            <a:ext cx="83822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 Cw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 of Curriculum and Instruction (Science and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ristown Area School Distr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gust 5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e Can Help Par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course s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“future plans”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your children to take rigorous course work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pecial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ir senio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p into resources about college and futu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0" y="457200"/>
            <a:ext cx="1905120" cy="213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68580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s for the future, your task is not to foresee it, but to enable i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 Antoine de Saint-Exup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4114800" cy="312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tzerland"/>
              </a:rPr>
              <a:t>What We Know Toda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 order to compete in a 21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century global economy, Pennsylvania needs a highly-educated and proficient workfor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y the year 2010, the U.S. will face a shortage of 12 million qualified workers for the fastest-growing job sectors including health care and computer technology. 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U.S. Bureau of Labor Statist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s will make it imperative that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all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youth - both enrolled and out of school - have the skills and education to meet this shorta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15200" y="20574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5880" y="579132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1163520" cy="114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28600" y="228600"/>
          <a:ext cx="6553080" cy="6378480"/>
        </p:xfrm>
        <a:graphic>
          <a:graphicData uri="http://schemas.openxmlformats.org/drawingml/2006/table">
            <a:tbl>
              <a:tblPr/>
              <a:tblGrid>
                <a:gridCol w="4572000"/>
                <a:gridCol w="198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tune 500 Characteri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ri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utational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ing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al Commun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stening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al Career Develop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ive Thin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d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oal Setting/Motiv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am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zational Effective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blem Sol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personal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7010280" y="228600"/>
          <a:ext cx="1828800" cy="641988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914400"/>
            <a:ext cx="1447920" cy="1523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imilarities and differences do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is differ from a traditional view of instr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is information mean for our students?  Our Teachers? The Commu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st Century Learning:  21st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is the Partnership for 2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 Lear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tnership for 21st Century Skills, the nation’s leading advocacy organization focused on infusing 21st century skills into education, comprised of some of the follow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33520" y="3505320"/>
          <a:ext cx="8076600" cy="2646360"/>
        </p:xfrm>
        <a:graphic>
          <a:graphicData uri="http://schemas.openxmlformats.org/drawingml/2006/table">
            <a:tbl>
              <a:tblPr/>
              <a:tblGrid>
                <a:gridCol w="4153680"/>
                <a:gridCol w="3922920"/>
              </a:tblGrid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&amp;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al Testing Serv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d Mo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 Achiev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ame Stre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z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086600" y="4952880"/>
            <a:ext cx="1752480" cy="146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entury Learning: 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gital-Age Literacy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Basic, Scientific, Economic, Technological, Visual, Information, Multicultural and Global Awareness, H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2514600" cy="243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ventive Think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st Century Learning:  21st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438280"/>
            <a:ext cx="81532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aptability and Managing Complexity, Self-Direction, Curiosity, Creativity, Risk Taking, Higher-Order Thinking and Sound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34320" y="1600200"/>
            <a:ext cx="1699920" cy="181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ive Communication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Teaming and Collaboration, Interpersonal Skills, Personal Responsibility, Social and Civic Responsibility, Interactive 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st Century Learning:  21st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gh Productivit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st Century Learning:  21st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2438280"/>
            <a:ext cx="80010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oritizing, Planning and Managing for Results, Effective Use of Real-World Tools, Ability to Produce Relevant, High-Quality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477120" y="160020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48:43Z</dcterms:created>
  <dc:creator>BASD</dc:creator>
  <dc:description/>
  <dc:language>en-US</dc:language>
  <cp:lastModifiedBy>NASD</cp:lastModifiedBy>
  <dcterms:modified xsi:type="dcterms:W3CDTF">2009-08-12T17:25:32Z</dcterms:modified>
  <cp:revision>24</cp:revision>
  <dc:subject/>
  <dc:title>Slide 1</dc:title>
</cp:coreProperties>
</file>